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AEA-6F09-43E5-A793-E4755FCB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D06-6D1A-4538-AC10-3F5EEB90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EDB-2DF7-4700-AC55-CBB68133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E72-9FDE-45EA-AA0D-6CB0E46F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901B-3759-44AD-86A4-47FE27A7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22DC-7495-4EFB-8B13-BF9E5888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773B-502E-438E-9654-45D19B7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9E38-863A-43D4-802F-1FF3B333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1E8E-94FC-4A35-8734-63C6264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9193-2022-4346-9D0E-287E6C11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4C6F-137E-47CA-9336-0C8F4262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BF5-CF37-40E7-81DD-7FD4233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CC7-912C-4A00-90F3-72803F2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EAAB-B529-4866-8ECD-4AA30C0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EF54-C6AD-421F-A5B3-86D759D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E803-0977-4E53-A696-3D6F280C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3251-395D-4EBA-8662-9087A38D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70DE-FB4B-47B6-AE15-120C7D2B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170C-1E3A-4C95-8D06-0B856EF5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3A32-488B-46E5-8D9C-662344A4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EDA8-3611-4FAE-A652-D439929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BE49-C9FC-441D-826A-73D56C50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5A3-0ABA-4D6B-B63A-A4412322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E817-D2BF-4FBE-9B04-178BE9FA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B387-F62D-4F8C-AB8A-4B2F688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790D-4D23-480B-8B93-33D73BB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B26C-CFB1-40B2-B5C3-4B151567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89A3-CE0E-44C1-96A7-0B913B2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F287-F7C5-42BE-B414-DE56C497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9166-63CF-4DBD-82E4-A19E8250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608-57A9-4237-9726-A7BEC1FF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979-ADAD-447B-98ED-EF55F847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849-9D33-484F-97CB-8B8C865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946-5477-485A-AEF3-BE85CDD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6DC-2FBD-4AA9-8CF6-964588D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79C-7563-445D-A521-9895B9D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9F7-AA80-4CCD-A4AF-EA92E595C3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F33-3786-4D4F-B0ED-9168AE77A47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F2A-D9B4-451B-AF08-9E3673A4AEC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22440" y="2603520"/>
            <a:ext cx="772308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80880" y="83808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-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perforate anu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e to failure of rupture of anal membrane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6386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 stenos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dorsal deviation of the cloacal septum as it grows caudal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anal ca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 agenes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erminates blindly. It is associated with a fistula between rectum and urinary bladder , urethra or vag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6096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231840" y="1450800"/>
            <a:ext cx="8528040" cy="2756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304920" y="441972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 Dr. Shawky Tay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Development of rectum and upper ½ of anal ca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8244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Origin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doderm of hindgut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mucosa &amp; gland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planchnic secondary mesoderm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submucosa &amp; musculos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aca ( dilated caudal part of hindgut) is divided by cloacal septum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A dorsal part ( anorectal ca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A ventral part ( primitive urogenital sin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Mazen\Desktop\9.jpg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4760" y="1522440"/>
            <a:ext cx="89344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240" y="9907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anorectal canal gives the rectum and upper 1/2 of anal canal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rectum will be convoluted due to unequal growth of its wal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Mazen\Desktop\9.jpg"/>
          <p:cNvPicPr/>
          <p:nvPr/>
        </p:nvPicPr>
        <p:blipFill>
          <a:blip r:embed="rId1"/>
          <a:stretch/>
        </p:blipFill>
        <p:spPr>
          <a:xfrm>
            <a:off x="4419720" y="838080"/>
            <a:ext cx="44956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Development of lower half of anal ca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ig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tode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atified columnar epithel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nchnic secondary mesode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mucosa, musculosa and anal sphin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upper ½ of anal canal is endodermal and its lower half is ectoderma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Development of Anal Cana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enchyme around anal membrane  proliferates producing elevations of the surface ectoderm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al hil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 membrane is now located at the bottom of an ectodermal depression called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ctodium ( primitive anal canal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wer ½ of anal c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 membrane ruptures leaving remnants as anal valves and the two halves of anal canal are continueous with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Documents and Settings\Mazen\Desktop\10.jpg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ongenital anomalies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stulae formatio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ovaginal, rectouretheral, rectovesical, anouretheral and anovaginal fistula) due to incomplete development of cloacal sep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tal atresia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either abnormal canalization or defect in blood supply causing focal atre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Mazen\Desktop\11.jpg"/>
          <p:cNvPicPr/>
          <p:nvPr/>
        </p:nvPicPr>
        <p:blipFill>
          <a:blip r:embed="rId1"/>
          <a:stretch/>
        </p:blipFill>
        <p:spPr>
          <a:xfrm>
            <a:off x="533520" y="3733920"/>
            <a:ext cx="8245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61920" y="95400"/>
            <a:ext cx="7220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9:02:41Z</dcterms:created>
  <dc:creator>Layan</dc:creator>
  <dc:description/>
  <dc:language>en-US</dc:language>
  <cp:lastModifiedBy>Safa Osman</cp:lastModifiedBy>
  <dcterms:modified xsi:type="dcterms:W3CDTF">2016-02-01T12:33:49Z</dcterms:modified>
  <cp:revision>31</cp:revision>
  <dc:subject/>
  <dc:title>Development of duodenum</dc:title>
</cp:coreProperties>
</file>